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chimes.wav" ContentType="audio/x-wav"/>
  <Override PartName="/ppt/media/image1.jpeg" ContentType="image/jpeg"/>
  <Override PartName="/ppt/media/image6.jpeg" ContentType="image/jpeg"/>
  <Override PartName="/ppt/media/image10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F68-E766-4C3B-840C-F1340AB1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98E-DD69-4242-8BDA-6CA02B5D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15A-39E3-403E-BF78-D8863FD2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913-2F05-4F94-AE9F-672D1236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355-7ECB-44C8-BE54-78EB1914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F180-AE06-4DB1-9519-F3EEBDBA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7569-120C-4591-BF9B-AE5DA6A5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852D-FC80-42CF-B23B-51FBB4BD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D8E0-4998-4326-91D4-B7EFFD04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2E38-E09C-4178-A106-77CC7FB2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F8F-FD87-47F9-879A-53F917BD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519-64F2-4F1C-BD3C-BACFE5C7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FAAA-8A84-47D7-ABC5-9A112C4CA3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248520" y="4724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（南宋）  周  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477120" y="1371600"/>
            <a:ext cx="20574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5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观   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海潮壮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01280"/>
            <a:ext cx="8229600" cy="492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钱塘江潮，是天下雄伟的景象啊。从农历（八月）十六日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到十八日是最高潮的时候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潮水从钱塘江入海口涌起的时候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远远看去）仅仅像一条银白色的线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;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接着渐渐靠近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就像玉城雪岭一样连天涌来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声音大得像雷声轰鸣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波涛汹涌澎湃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震撼天地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激扬喷射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好像要吞掉天空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冲刷太阳一般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气势极其雄伟豪壮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杨万里诗中说的“海涌银为郭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江横玉系腰” 就是指这样的景象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5280" y="33336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译文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第一段是怎样写海潮的雄伟壮观的景象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3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先用一句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浙江之潮，天下之伟观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总结全文，点示题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接着交待海潮最盛的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然后对潮水作正面描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最后用杨诚斋的诗句对上文作形象概括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呼应首句，又为下文作铺垫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891800" y="909720"/>
            <a:ext cx="19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赏读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2708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方其远出海门，仅如银线；既而渐近，则玉城雪岭际天而来，大声如雷霆，震撼激射，吞天沃日，势极雄豪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线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5120" y="-4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73160" y="-463680"/>
            <a:ext cx="6126120" cy="5132160"/>
            <a:chOff x="1973160" y="-463680"/>
            <a:chExt cx="6126120" cy="5132160"/>
          </a:xfrm>
        </p:grpSpPr>
        <p:sp>
          <p:nvSpPr>
            <p:cNvPr id="119" name=""/>
            <p:cNvSpPr/>
            <p:nvPr/>
          </p:nvSpPr>
          <p:spPr>
            <a:xfrm>
              <a:off x="1973160" y="-463680"/>
              <a:ext cx="6126120" cy="51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73160" y="-463680"/>
              <a:ext cx="6126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" descr="一线潮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531960" y="38088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一线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4572000" cy="2819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772080" cy="563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4524120" cy="2657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352680" y="6095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020e"/>
                </a:solidFill>
                <a:latin typeface="楷体_GB2312"/>
                <a:ea typeface="楷体_GB2312"/>
              </a:rPr>
              <a:t>钱 塘 江 大 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441936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6933960" cy="3660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876920" y="4038480"/>
            <a:ext cx="3962160" cy="2514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426080" y="1066680"/>
            <a:ext cx="1033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5020e"/>
                </a:solidFill>
                <a:latin typeface="Times New Roman"/>
                <a:ea typeface="楷体_GB2312"/>
              </a:rPr>
              <a:t>钱 塘 江 观 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160020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2362320"/>
            <a:ext cx="3886200" cy="1295280"/>
          </a:xfrm>
          <a:custGeom>
            <a:avLst/>
            <a:gdLst>
              <a:gd name="textAreaLeft" fmla="*/ 0 w 3886200"/>
              <a:gd name="textAreaRight" fmla="*/ 3886560 w 388620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翻江倒海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228600" y="2742840"/>
            <a:ext cx="1295280" cy="685800"/>
          </a:xfrm>
          <a:prstGeom prst="flowChartManualOperation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4038480"/>
            <a:ext cx="1600200" cy="838440"/>
            <a:chOff x="914400" y="4038480"/>
            <a:chExt cx="1600200" cy="838440"/>
          </a:xfrm>
        </p:grpSpPr>
        <p:grpSp>
          <p:nvGrpSpPr>
            <p:cNvPr id="137" name=""/>
            <p:cNvGrpSpPr/>
            <p:nvPr/>
          </p:nvGrpSpPr>
          <p:grpSpPr>
            <a:xfrm>
              <a:off x="914400" y="4114800"/>
              <a:ext cx="1600200" cy="762120"/>
              <a:chOff x="914400" y="4114800"/>
              <a:chExt cx="1600200" cy="762120"/>
            </a:xfrm>
          </p:grpSpPr>
          <p:sp>
            <p:nvSpPr>
              <p:cNvPr id="138" name=""/>
              <p:cNvSpPr/>
              <p:nvPr/>
            </p:nvSpPr>
            <p:spPr>
              <a:xfrm>
                <a:off x="914400" y="4114800"/>
                <a:ext cx="914400" cy="762120"/>
              </a:xfrm>
              <a:prstGeom prst="flowChartExtra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524240" y="4114800"/>
                <a:ext cx="990360" cy="762120"/>
              </a:xfrm>
              <a:prstGeom prst="flowChartExtra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219320" y="4038480"/>
              <a:ext cx="990720" cy="762120"/>
            </a:xfrm>
            <a:prstGeom prst="flowChartExtra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276720" y="685800"/>
            <a:ext cx="2133360" cy="152280"/>
          </a:xfrm>
          <a:prstGeom prst="roundRect">
            <a:avLst>
              <a:gd name="adj" fmla="val 16667"/>
            </a:avLst>
          </a:prstGeom>
          <a:solidFill>
            <a:srgbClr val="8844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5020e"/>
                </a:solidFill>
                <a:latin typeface="Times New Roman"/>
                <a:ea typeface="华文行楷"/>
              </a:rPr>
              <a:t>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1980720" y="532800"/>
            <a:ext cx="1600200" cy="533160"/>
          </a:xfrm>
          <a:prstGeom prst="flowChartManualOperation">
            <a:avLst/>
          </a:prstGeom>
          <a:solidFill>
            <a:srgbClr val="884400"/>
          </a:solidFill>
          <a:ln cap="sq" w="12600">
            <a:solidFill>
              <a:srgbClr val="8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5020e"/>
                </a:solidFill>
                <a:latin typeface="Times New Roman"/>
                <a:ea typeface="华文行楷"/>
              </a:rPr>
              <a:t>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181480" y="0"/>
            <a:ext cx="1600200" cy="837720"/>
            <a:chOff x="5181480" y="0"/>
            <a:chExt cx="1600200" cy="837720"/>
          </a:xfrm>
        </p:grpSpPr>
        <p:grpSp>
          <p:nvGrpSpPr>
            <p:cNvPr id="144" name=""/>
            <p:cNvGrpSpPr/>
            <p:nvPr/>
          </p:nvGrpSpPr>
          <p:grpSpPr>
            <a:xfrm>
              <a:off x="5181480" y="75960"/>
              <a:ext cx="1600200" cy="761760"/>
              <a:chOff x="5181480" y="75960"/>
              <a:chExt cx="1600200" cy="761760"/>
            </a:xfrm>
          </p:grpSpPr>
          <p:sp>
            <p:nvSpPr>
              <p:cNvPr id="145" name=""/>
              <p:cNvSpPr/>
              <p:nvPr/>
            </p:nvSpPr>
            <p:spPr>
              <a:xfrm>
                <a:off x="5181480" y="75960"/>
                <a:ext cx="914400" cy="761760"/>
              </a:xfrm>
              <a:prstGeom prst="flowChartExtract">
                <a:avLst/>
              </a:prstGeom>
              <a:solidFill>
                <a:srgbClr val="8844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91320" y="75960"/>
                <a:ext cx="990360" cy="761760"/>
              </a:xfrm>
              <a:prstGeom prst="flowChartExtract">
                <a:avLst/>
              </a:prstGeom>
              <a:solidFill>
                <a:srgbClr val="88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5486400" y="0"/>
              <a:ext cx="990720" cy="761760"/>
            </a:xfrm>
            <a:prstGeom prst="flowChartExtract">
              <a:avLst/>
            </a:prstGeom>
            <a:solidFill>
              <a:srgbClr val="88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5020e"/>
                  </a:solidFill>
                  <a:latin typeface="Times New Roman"/>
                  <a:ea typeface="华文行楷"/>
                </a:rPr>
                <a:t>岭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 rot="21087000">
            <a:off x="2743200" y="4267080"/>
            <a:ext cx="3429000" cy="1981440"/>
          </a:xfrm>
          <a:prstGeom prst="irregularSeal2">
            <a:avLst/>
          </a:prstGeom>
          <a:noFill/>
          <a:ln cap="sq" w="12600">
            <a:solidFill>
              <a:srgbClr val="8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00000"/>
                </a:solidFill>
                <a:latin typeface="Times New Roman"/>
                <a:ea typeface="华文行楷"/>
              </a:rPr>
              <a:t>雷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380880"/>
            <a:ext cx="1676160" cy="6019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吞天沃日，势极雄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2743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15238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3886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2819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60958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比喻、夸张（从远到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水军演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681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每年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农历八月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京都临安府长官来到浙江亭校阅水军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百艘战船分别列在两岸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接着演习五阵的阵势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忽而疾驶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忽而腾起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忽而分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忽而合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极尽各种变化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同时有在水面上骑马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舞旗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举枪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舞刀的人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好像踩在平地上一样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忽然黄烟四起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人和物一点儿也看不见了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只听得）传来水爆的轰鸣声，声音就像山塌了一样。（待到）烟雾消失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水面又恢复了平静，看不到一条船的踪迹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只剩下被火烧毁的“敌船”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随着波浪流走了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5280" y="33336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译文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9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8088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5020e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钱塘江潮是由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天体引力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地球自转的离心力作用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加上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杭州湾的喇叭口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殊地形而形成的特大涌潮。每年农历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八月十八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前后，潮势达到极盛，如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万马奔腾，蔚为壮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前来观潮的人也是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络绎不绝，人山人海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8305920" cy="3810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11280" y="4797360"/>
            <a:ext cx="194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科学解释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60960" y="225360"/>
            <a:ext cx="121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赏读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艨艟数百，分列两岸；既而尽奔腾分和五阵之势，并有乘骑弄旗标枪舞刀于水面者，如屡平地。倏尔黄烟四起，任务略不相睹，水爆轰震，声如崩山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2590920"/>
            <a:ext cx="87631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写参演船舱之多的句子是：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写阵势变化多端的句子是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: 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写演练技艺之高的句子是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: 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写双方习战之激烈的句子是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＿＿＿＿＿＿＿＿＿＿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写“静”的句子是：＿＿＿＿＿＿＿＿＿＿＿＿＿＿＿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写“动”的句子是：＿＿＿＿＿＿＿＿＿＿＿＿＿＿＿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4724280"/>
            <a:ext cx="8077320" cy="914400"/>
          </a:xfrm>
          <a:custGeom>
            <a:avLst/>
            <a:gdLst>
              <a:gd name="textAreaLeft" fmla="*/ 1776240 w 8077320"/>
              <a:gd name="textAreaRight" fmla="*/ 6301080 w 807732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48006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水军操练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905120"/>
            <a:ext cx="3962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艨艟数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列两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1295280"/>
            <a:ext cx="3048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奔腾分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乘弄标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声如崩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1828800"/>
            <a:ext cx="2362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烟消波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舸无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37339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3733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3962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3962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场复杂的演习活动，而结在“烟消彼静”的静景上，这是采用了什么写法？采用这种写法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8229600" cy="1152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确：这是一种动静相衬的写法，为下文别开生面的另一场水上表演作了铺垫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健儿弄潮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105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几百个善于泅水的吴中健儿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都披散着头发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浑身刺着花纹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手里拿着十幅大彩旗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争先恐后奋力逆流迎潮而上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他们的身影）在万丈高的惊涛骇浪中浮沉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翻腾着身子变幻着各种姿态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而旗尾却一点儿也不被水沾湿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凭借这种（表演）来展示他们（高超）的技能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5280" y="33336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译文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第三段中哪些句子描写了壮士形象？哪些语句突出了勇士逆潮游泳的高超本领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明确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披发文身”、“手持大旗”、“争先鼓勇”，写出了壮士形象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溯迎而上”“腾身百变，而旗尾略不沾湿”，更突出了勇士的绝技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游者争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2736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江岸上下十几里间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满眼都是身着华服的游人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车马堵塞了道路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,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各种东西都比平时贵了几倍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租用看棚的人非常多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即使是一席之地也不会空下来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33336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译文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62120" y="4114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观潮盛况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3886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7242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车马塞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4876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倍穹常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55627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席地不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horz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第四段写观潮人众之多与上文写江潮和水上表演有何联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9600" y="453960"/>
            <a:ext cx="172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亮点探究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600200"/>
            <a:ext cx="800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《观潮》第一句说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浙江之潮，天下之伟观也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句话在文中有什么作用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32767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点拨：用渲染的手法揭示了描写对象，点明了题旨，揭示了中心，可以说集全文要义于首句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04920" y="304920"/>
            <a:ext cx="8534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作者在《观潮》这篇散文中，绘声、绘色、绘形、绘势地描写了这一壮美雄奇的景象。全文的着眼点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，立足点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，作者是从哪些方面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1337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点拨</a:t>
            </a:r>
            <a:r>
              <a:rPr b="1" lang="zh-CN" sz="2400" spc="-1" strike="noStrike">
                <a:solidFill>
                  <a:srgbClr val="d05400"/>
                </a:solidFill>
                <a:latin typeface="宋体"/>
              </a:rPr>
              <a:t>：作者从四个方面写观潮：潮来之状，演兵之威，弄潮之技，观潮之盛。作者由远而近写“潮来之状”，“演兵之威”是散文精彩的一笔，作者生动地描写了南宋水军演习的情景。“弄潮之技”更让观众大开眼界。“披发文身”写弄潮儿的外形，“溯迎而上”写弄潮儿的猛勇，“出没于鲸波万仞”写弄潮儿的矫健；“腾身百变，而旗尾略不沾湿”写弄潮儿的绝技超凡。最能表现“观潮之盛”的语句是“江干上下十余里间，珠翠罗绮溢目，车马塞途。”作者以“十余里”的路途之长表现观潮场面之大，盛况空前；以“车马塞途”写看客之多；以“虽席地不容闲也”写观潮人拥挤之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260280"/>
            <a:ext cx="8610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05400"/>
                </a:solidFill>
                <a:latin typeface="Times New Roman"/>
                <a:ea typeface="隶书"/>
              </a:rPr>
              <a:t>钱塘江观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历史悠久。有文献记载的就有两千多年，为</a:t>
            </a:r>
            <a:r>
              <a:rPr b="1" lang="zh-CN" sz="3600" spc="-1" strike="noStrike">
                <a:solidFill>
                  <a:srgbClr val="d05400"/>
                </a:solidFill>
                <a:latin typeface="华文新魏"/>
                <a:ea typeface="华文新魏"/>
              </a:rPr>
              <a:t>宋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最盛。现在观潮在浙江海宁，但在宋代，观潮胜地却在临安，就是今天的杭州市。南宋定都临安，每年农历</a:t>
            </a:r>
            <a:r>
              <a:rPr b="1" lang="zh-CN" sz="3600" spc="-1" strike="noStrike">
                <a:solidFill>
                  <a:srgbClr val="cc0099"/>
                </a:solidFill>
                <a:latin typeface="华文新魏"/>
                <a:ea typeface="华文新魏"/>
              </a:rPr>
              <a:t>八月十八日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都要举行观潮盛典。</a:t>
            </a:r>
            <a:r>
              <a:rPr b="1" lang="zh-CN" sz="3600" spc="-1" strike="noStrike">
                <a:solidFill>
                  <a:srgbClr val="cc0099"/>
                </a:solidFill>
                <a:latin typeface="华文新魏"/>
                <a:ea typeface="华文新魏"/>
              </a:rPr>
              <a:t>迎潮前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有水军演习，</a:t>
            </a:r>
            <a:r>
              <a:rPr b="1" lang="zh-CN" sz="3600" spc="-1" strike="noStrike">
                <a:solidFill>
                  <a:srgbClr val="cc0099"/>
                </a:solidFill>
                <a:latin typeface="华文新魏"/>
                <a:ea typeface="华文新魏"/>
              </a:rPr>
              <a:t>潮到时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又有吴地少年弄潮争标表演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当日从宫廷到民间争相观看，万人空巷，十分热闹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4572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渲染，烘托和对比是作者在文中所运用的三种写作方法，请各找出一个例句，说说它的作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18288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点拨：“大声如雷霆，震撼激射，吞天沃日，势机雄豪。”是渲染钱塘江大潮的“伟观”，增强了艺术效果。烘托又称“衬托”，“映衬”，如“饮食百物皆倍穹于常时”是烘托观潮人极多和观潮盛况。“出没于鲸波万仞中，腾身百变，而旗尾略不沾湿”是对比，突出了吴中健儿弄潮表演技艺超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62120" y="838080"/>
            <a:ext cx="740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试从课文中找出一些精彩恰当的词语，说说它们的妙处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266688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点拨：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吞天沃日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动词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吞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沃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极有气势。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倏尔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一词表现了水军动作神速。动词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披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文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持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争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鼓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迎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上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出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没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腾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变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沾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的连用，写出了弄潮儿生龙活虎般的形象特点，表现了动态美。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虽席地不容闲也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也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是用来加强肯定语气的助词，强调观潮的人特别多。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871380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、一词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被（“敌船”为火所焚）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当作（海涌银为郭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算是，是（自既望以至十八日为盛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凭借（以此夸能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因为（公亦以此自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方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当……时（方其远出海门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正（方欲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景象，景观，名词（天下之伟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观看，动词（观潮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191120"/>
            <a:ext cx="88930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、古今异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沃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华文中宋"/>
                <a:ea typeface="华文中宋"/>
              </a:rPr>
              <a:t>古义：用水淋洗（吞天沃日，以冷水沃面）  今义：肥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略 </a:t>
            </a:r>
            <a:r>
              <a:rPr b="1" lang="zh-CN" sz="2400" spc="-1" strike="noStrike">
                <a:solidFill>
                  <a:srgbClr val="000066"/>
                </a:solidFill>
                <a:latin typeface="华文中宋"/>
                <a:ea typeface="华文中宋"/>
              </a:rPr>
              <a:t>古义：副词，一点儿（人物略不相睹）     今义：省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标枪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华文中宋"/>
                <a:ea typeface="华文中宋"/>
              </a:rPr>
              <a:t>古义：动宾短语，举着枪      今义：一种投掷器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2360" y="333360"/>
            <a:ext cx="8891640" cy="32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、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饮食百物皆倍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穹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常时：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形容词用作动词，高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皆披发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文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身：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名词用作动词，画着花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下之伟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观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也：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动词用作名词，景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既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奔腾分合五阵之势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形容词用作动词，穷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1600200" y="457200"/>
            <a:ext cx="23335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特殊句子：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2205000"/>
            <a:ext cx="7924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8713800" cy="35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、特殊句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倒装句：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“出没于鲸波万仞中”即为“出没于万仞鲸波中”，定语后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被动句：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“仅有敌船为火所焚”，其中“为……所”表被动。此句译为：只有假想的敌方战船被火焚烧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）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判断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浙江之潮，天下之伟观也。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（ “也”表示判断语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04920" y="40464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  <a:ea typeface="隶书"/>
              </a:rPr>
              <a:t>解释划横线的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370160"/>
            <a:ext cx="621180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僦赁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看幕，虽席地不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容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闲也；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、乘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骑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弄旗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标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枪舞刀于水面者；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、一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舸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无迹；                   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、吞天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沃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日；                       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、披发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文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身；                     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、倍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穹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常时；                       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7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倏尔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黄烟四起；                    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8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艨艟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数百；                      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9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以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此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夸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能；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751040"/>
            <a:ext cx="26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租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1751040"/>
            <a:ext cx="28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许、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2131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2131920"/>
            <a:ext cx="29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树立、举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2589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31226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用水淋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66880" y="3579840"/>
            <a:ext cx="59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名词用作动词，刺花纹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66880" y="4037040"/>
            <a:ext cx="16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4570560"/>
            <a:ext cx="207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忽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502776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战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548496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用，凭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5484960"/>
            <a:ext cx="35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夸耀，显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71600" y="533520"/>
            <a:ext cx="6629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东南形胜，三吴都会，钱塘自古繁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宋） 柳  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9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685800"/>
            <a:ext cx="8305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八月十八潮，壮观天下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——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苏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3059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作者简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075520" cy="403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作者周密，字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华文新魏"/>
              </a:rPr>
              <a:t>公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，号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华文新魏"/>
              </a:rPr>
              <a:t>草窗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。原籍济南，后迁吴兴（今属浙江）。南宋文学家。宋末曾做过义乌县官等职，宋灭之后不再做官。他的诗文都有成就，又能书画。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华文新魏"/>
              </a:rPr>
              <a:t>《观潮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选自《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华文新魏"/>
              </a:rPr>
              <a:t>武林旧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》，是他进入元朝后所写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16040" y="-9828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请朗读下列字词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352520"/>
            <a:ext cx="28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吞天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沃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87800" y="135252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江横玉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系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558972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乘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骑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弄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6880" y="246528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如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履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平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8160" y="2449440"/>
            <a:ext cx="27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一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舸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无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3643200"/>
            <a:ext cx="309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9640" y="2478240"/>
            <a:ext cx="29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溯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迎而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9840" y="3471840"/>
            <a:ext cx="29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鲸波万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63760" y="348624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珠翠罗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4920" y="447984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倍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穹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常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561672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僦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看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5440" y="453708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四马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塞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79400" y="13510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泅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32720" y="455148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艨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45320" y="55897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0920" y="347184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京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98100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w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21440" y="98100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j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51640" y="1006560"/>
            <a:ext cx="1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qi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7560" y="2060640"/>
            <a:ext cx="110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l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2028960"/>
            <a:ext cx="14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g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84880" y="2130480"/>
            <a:ext cx="8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s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40000" y="3137040"/>
            <a:ext cx="8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rè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48440" y="305100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q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37600" y="3137040"/>
            <a:ext cx="11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y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ǐ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49600" y="4173480"/>
            <a:ext cx="102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s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2720" y="4130640"/>
            <a:ext cx="12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qi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00720" y="420372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mé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13480" y="4175280"/>
            <a:ext cx="14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chō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28600" y="5268960"/>
            <a:ext cx="6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j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33680" y="5268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ji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525456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lì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16600" y="52261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s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762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解释下列字词</a:t>
            </a:r>
            <a:r>
              <a:rPr b="0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1916280"/>
            <a:ext cx="6130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既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至十八日为最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远出海门，仅如银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倏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黄烟四起，人物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相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有“敌船”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火所焚，随波而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逝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吴儿善泅者数百，皆披发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珠翠罗绮溢目，四马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溯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上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出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鲸波万仞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184320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农历十六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243828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当……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29718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忽然；一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42900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被；去、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403848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画着文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45720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阻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4680" y="5562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逆流迎着潮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05400" y="5562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健儿在水中忽隐忽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．课文共四段，请概括每段的段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6019920" cy="3657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一段写海潮的雄伟壮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二段写水军演习的动人情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三段写弄潮健儿的英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四段写观潮人众之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ShockwaveFlash1"/>
          <p:cNvGraphicFramePr/>
          <p:nvPr/>
        </p:nvGraphicFramePr>
        <p:xfrm>
          <a:off x="8244000" y="5877000"/>
          <a:ext cx="64764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00" y="5877000"/>
                    <a:ext cx="647640" cy="72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705720" y="16002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翻江倒海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吴儿弄潮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25146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水军操练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4572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观潮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edu.com</dc:creator>
  <dc:description>www.dearedu.com</dc:description>
  <cp:keywords>www.dearedu.com</cp:keywords>
  <dc:language>en-US</dc:language>
  <cp:lastModifiedBy>lyl-dearedu</cp:lastModifiedBy>
  <dcterms:modified xsi:type="dcterms:W3CDTF">2010-02-23T03:40:26Z</dcterms:modified>
  <cp:revision>13</cp:revision>
  <dc:subject>www.dearedu.com</dc:subject>
  <dc:title>www.deare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